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8B53-72C5-4E4D-AD0B-74CEDE781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7F05-59EB-44D3-8CD1-1C1F8A970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8F9D-ABA9-4E4E-B806-165404E76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2C6C-E0BB-420A-8A0F-44E932852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F963-840F-4641-90E5-A4D643D5A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F2BC-2ACE-4DF2-A24A-07757840C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DB39-DD82-406A-A27E-C30A0EA1A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283B-8AAE-4AA9-B716-EA7EC1C97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BA07-1AC5-4189-98A4-F7276B838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E89F-27D1-43C0-A9B5-946125E2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24F9-7AC2-4902-935C-C2CED864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680B-9188-4F19-B68B-1420960C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489374D-CD22-4DC9-A3CE-0635CB66DA7F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5790960" cy="5002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666520" y="1447560"/>
            <a:ext cx="44960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_tradnl" sz="6000" spc="-1" strike="noStrike">
                <a:solidFill>
                  <a:srgbClr val="3333cc"/>
                </a:solidFill>
                <a:latin typeface="Century"/>
              </a:rPr>
              <a:t>Easter</a:t>
            </a:r>
            <a:br>
              <a:rPr sz="6000"/>
            </a:br>
            <a:r>
              <a:rPr b="1" lang="es-ES_tradnl" sz="4400" spc="-1" strike="noStrike">
                <a:solidFill>
                  <a:srgbClr val="3333cc"/>
                </a:solidFill>
                <a:latin typeface="Century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Arial"/>
              </a:rPr>
              <a:t>Easter Bun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3333cc"/>
              </a:buClr>
              <a:buFont typeface="Wingdings" charset="2"/>
              <a:buChar char="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Many bunnies are sold around Ea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3333cc"/>
              </a:buClr>
              <a:buFont typeface="Wingdings" charset="2"/>
              <a:buChar char="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Bunnies are baby rabb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28480" y="1598760"/>
            <a:ext cx="3583080" cy="4497120"/>
          </a:xfrm>
          <a:prstGeom prst="rect">
            <a:avLst/>
          </a:prstGeom>
          <a:ln w="9360">
            <a:solidFill>
              <a:srgbClr val="ffcc99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_tradnl" sz="5400" spc="-1" strike="noStrike">
                <a:solidFill>
                  <a:srgbClr val="3333cc"/>
                </a:solidFill>
                <a:latin typeface="Century"/>
              </a:rPr>
              <a:t>The E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entury"/>
              </a:rPr>
              <a:t>More Lessons 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entury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Century"/>
              </a:rPr>
              <a:t>www.elcivic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4299120"/>
            <a:ext cx="2638440" cy="255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Arial"/>
              </a:rPr>
              <a:t>Easter Sun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66ff"/>
              </a:buClr>
              <a:buFont typeface="Wingdings" charset="2"/>
              <a:buChar char="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Easter is in the spr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66ff"/>
              </a:buClr>
              <a:buFont typeface="Wingdings" charset="2"/>
              <a:buChar char="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Spring is the season of new beginn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66ff"/>
              </a:buClr>
              <a:buFont typeface="Wingdings" charset="2"/>
              <a:buChar char="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In 2009, Easter is on Sunday, April 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3581280" cy="4495680"/>
          </a:xfrm>
          <a:prstGeom prst="rect">
            <a:avLst/>
          </a:prstGeom>
          <a:ln w="9360">
            <a:solidFill>
              <a:srgbClr val="ffcc99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Arial"/>
              </a:rPr>
              <a:t>Chu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3333cc"/>
              </a:buClr>
              <a:buFont typeface="Wingdings" charset="2"/>
              <a:buChar char="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Easter is a religious holi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3333cc"/>
              </a:buClr>
              <a:buFont typeface="Wingdings" charset="2"/>
              <a:buChar char="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Some people celebrate by going to chu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28480" y="1600200"/>
            <a:ext cx="3583080" cy="4497480"/>
          </a:xfrm>
          <a:prstGeom prst="rect">
            <a:avLst/>
          </a:prstGeom>
          <a:ln w="9360">
            <a:solidFill>
              <a:srgbClr val="ffcc99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Arial"/>
              </a:rPr>
              <a:t>Din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3333cc"/>
              </a:buClr>
              <a:buFont typeface="Wingdings" charset="2"/>
              <a:buChar char="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Many families prepare a large meal on this special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3333cc"/>
              </a:buClr>
              <a:buFont typeface="Wingdings" charset="2"/>
              <a:buChar char="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Ham dinners are popular on Ea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28480" y="1600200"/>
            <a:ext cx="3483000" cy="4498920"/>
          </a:xfrm>
          <a:prstGeom prst="rect">
            <a:avLst/>
          </a:prstGeom>
          <a:ln w="9360">
            <a:solidFill>
              <a:srgbClr val="ffcc99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Arial"/>
              </a:rPr>
              <a:t>New Clot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3333cc"/>
              </a:buClr>
              <a:buFont typeface="Wingdings" charset="2"/>
              <a:buChar char="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People like to wear new clothes on Ea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3333cc"/>
              </a:buClr>
              <a:buFont typeface="Wingdings" charset="2"/>
              <a:buChar char="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Females often wear dresses with floral prints and pretty ha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28480" y="1600200"/>
            <a:ext cx="3583080" cy="4497480"/>
          </a:xfrm>
          <a:prstGeom prst="rect">
            <a:avLst/>
          </a:prstGeom>
          <a:ln w="9360">
            <a:solidFill>
              <a:srgbClr val="ffcc99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Arial"/>
              </a:rPr>
              <a:t>Easter Eg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3333cc"/>
              </a:buClr>
              <a:buFont typeface="Wingdings" charset="2"/>
              <a:buChar char="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Children color eggs by dipping them in cups of dy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3333cc"/>
              </a:buClr>
              <a:buFont typeface="Wingdings" charset="2"/>
              <a:buChar char="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After they color the eggs, they put them in bask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28480" y="1600200"/>
            <a:ext cx="3583080" cy="4497480"/>
          </a:xfrm>
          <a:prstGeom prst="rect">
            <a:avLst/>
          </a:prstGeom>
          <a:ln w="9360">
            <a:solidFill>
              <a:srgbClr val="ffcc99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Arial"/>
              </a:rPr>
              <a:t>Easter Bask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3333cc"/>
              </a:buClr>
              <a:buFont typeface="Wingdings" charset="2"/>
              <a:buChar char="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Easter baskets are filled with gr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3333cc"/>
              </a:buClr>
              <a:buFont typeface="Wingdings" charset="2"/>
              <a:buChar char="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The grass keeps the eggs from brea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28480" y="1598760"/>
            <a:ext cx="3583080" cy="4497120"/>
          </a:xfrm>
          <a:prstGeom prst="rect">
            <a:avLst/>
          </a:prstGeom>
          <a:ln w="9360">
            <a:solidFill>
              <a:srgbClr val="ffcc99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Arial"/>
              </a:rPr>
              <a:t>Easter Egg Hu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3333cc"/>
              </a:buClr>
              <a:buFont typeface="Wingdings" charset="2"/>
              <a:buChar char="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Parents hide the  eggs in the backy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3333cc"/>
              </a:buClr>
              <a:buFont typeface="Wingdings" charset="2"/>
              <a:buChar char="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When their children wake up on Easter, they look for the eggs and put them in their Easter bask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28480" y="1600200"/>
            <a:ext cx="3583080" cy="4497480"/>
          </a:xfrm>
          <a:prstGeom prst="rect">
            <a:avLst/>
          </a:prstGeom>
          <a:ln w="9360">
            <a:solidFill>
              <a:srgbClr val="ffcc99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Arial"/>
              </a:rPr>
              <a:t>Lil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3333cc"/>
              </a:buClr>
              <a:buFont typeface="Wingdings" charset="2"/>
              <a:buChar char="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White lilies represent new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3333cc"/>
              </a:buClr>
              <a:buFont typeface="Wingdings" charset="2"/>
              <a:buChar char="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They look beautiful, and they smell wonderf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3582720" cy="4497480"/>
          </a:xfrm>
          <a:prstGeom prst="rect">
            <a:avLst/>
          </a:prstGeom>
          <a:ln w="9360">
            <a:solidFill>
              <a:srgbClr val="ffcc99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23:57:21Z</dcterms:created>
  <dc:creator>Christina</dc:creator>
  <dc:description/>
  <dc:language>en-US</dc:language>
  <cp:lastModifiedBy>Christina Niven</cp:lastModifiedBy>
  <dcterms:modified xsi:type="dcterms:W3CDTF">2009-04-09T23:28:13Z</dcterms:modified>
  <cp:revision>55</cp:revision>
  <dc:subject/>
  <dc:title>Easter Symbols</dc:title>
</cp:coreProperties>
</file>